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8.wmf" ContentType="image/x-wmf"/>
  <Override PartName="/ppt/media/image15.jpeg" ContentType="image/jpeg"/>
  <Override PartName="/ppt/media/image14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5.wmf" ContentType="image/x-wmf"/>
  <Override PartName="/ppt/media/image20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1E9-1CAE-4B8C-909F-D350E47C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F7D-2AC9-4DF5-88BF-B203FDC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F6A-AF60-4285-A870-413EEF80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454-0DF5-4B6E-B365-6037CEEB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9708-A389-4A8F-A469-D4160276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2AF5-8E1A-4EA3-A4C1-B059CB68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C03D-0DA7-49C0-9182-54DF8D86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8C66-5518-4A8D-AE79-C771607C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8F97-3FC1-4DDA-A291-C487BF54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6AE1-CDA9-498F-9518-A33B90CD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B62E-292A-47C9-B7FE-ED18465D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5CB-4B30-4766-9CA6-C393F57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EB04-A49F-432C-BA61-82A34B07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2100-35B4-41D9-B3EC-47EB28B6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743D-A0E9-4381-A66C-7F5CA71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E678-7985-409C-BF82-DFE75145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1312-F3C3-4FC0-91C7-6CA68228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BC6-1CBB-43B7-A1A5-7744BBA5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25A-C4BC-4D00-B733-F55A6235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436-6DC9-46FF-9DDD-10FDCB5E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512-D0DB-4824-AF14-F1C3F94A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F46-58C1-4EC2-A5C0-32A263D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E97-8023-48C1-9364-FB276CFC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A7C-0992-4FCF-B7FF-2F1FBED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32E-0E96-4E44-927B-5DEBFBFC1B0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2E7-A500-4FBD-8E26-471E86AF36C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ertramliger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6765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a3d7a"/>
                </a:solidFill>
                <a:latin typeface="Times New Roman"/>
              </a:rPr>
              <a:t>Notes: Characteristics of Life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9333"/>
                </a:solidFill>
                <a:latin typeface="Times New Roman"/>
              </a:rPr>
              <a:t>Unit – Introduction to Biolog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c0b"/>
                </a:solidFill>
                <a:latin typeface="Times New Roman"/>
              </a:rPr>
              <a:t>These Notes Fulfill Most of the NCSCOS Objectiv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80880" y="8380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timulu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ny condition that require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n organism to adjust. 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Temperatu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266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spons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 reaction to a stimulus. 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hiver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4038480"/>
            <a:ext cx="8534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4.  The ability to respond to stimuli in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vironment can mean the differenc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etween life and death. 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Hypothermi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219320" y="1219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Pavlov and the Dog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6" name="Picture 6" descr="PAVLOV"/>
          <p:cNvPicPr/>
          <p:nvPr/>
        </p:nvPicPr>
        <p:blipFill>
          <a:blip r:embed="rId1"/>
          <a:stretch/>
        </p:blipFill>
        <p:spPr>
          <a:xfrm>
            <a:off x="1752480" y="2057400"/>
            <a:ext cx="3962520" cy="2895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6095880" y="243828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Linked Dog salivation to the ringing of a bell = learned behavi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609480" y="60948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Living things must be able to obtain and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use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material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nerg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43000" y="2057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Energy is the ability to do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43000" y="26668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Plants take in the Sun’s energy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rough the process of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photosynthes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Picture 6" descr="photosynthesis.jpg"/>
          <p:cNvPicPr/>
          <p:nvPr/>
        </p:nvPicPr>
        <p:blipFill>
          <a:blip r:embed="rId1"/>
          <a:stretch/>
        </p:blipFill>
        <p:spPr>
          <a:xfrm>
            <a:off x="3200400" y="4191120"/>
            <a:ext cx="2895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447920" y="838080"/>
            <a:ext cx="7391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very organism (including plants)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onvert the energy of food into 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usable form of energy through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process of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spira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" name="Picture 4" descr="Respiration.jpg"/>
          <p:cNvPicPr/>
          <p:nvPr/>
        </p:nvPicPr>
        <p:blipFill>
          <a:blip r:embed="rId1"/>
          <a:stretch/>
        </p:blipFill>
        <p:spPr>
          <a:xfrm>
            <a:off x="3581280" y="4038480"/>
            <a:ext cx="2667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609480" y="83808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n organism must be able to regulate 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nternal environment.  The regula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n organism’s internal environment 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maintain conditions suitable for 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survival is calle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Homeostas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19320" y="51055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x: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body temperature and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1903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perspiratio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595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838080" y="762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H.  Living thing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dap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volv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1523880"/>
            <a:ext cx="7772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dapta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ny inherited structure,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ehavior, or internal process that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ables an organism to respond to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stimuli and to better survive in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219320" y="8380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2a3d7a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 gradual accumula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daptations in a population over tim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volu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219320" y="33526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3. Both Adaptations and Evolution allow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 species to survive changes in 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II.  Life Processes Vocabulary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38080" y="144792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2a3d7a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Nutri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all of the activities by which an  organism obtains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ood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from the environment and breaks it down into a form that can be absorbed and used by its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38080" y="3657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B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Transport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absorp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distribu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(circulation) of essential materials throughout the organis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838080" y="7621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C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Respira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release of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energy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from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ood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by a complex series of chemical reactions within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of the organism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38080" y="24382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D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Excre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– process by which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waste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of metabolism are remov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838080" y="36576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E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Synthesi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process by which simpl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molecule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are combined chemically to form mor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omplex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molecu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38080" y="6858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F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Regula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a number of coordinated activities that serve to maintain internal stability =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Homeostasi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, in the constantly changing environmen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26668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Growth</a:t>
            </a:r>
            <a:r>
              <a:rPr b="0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– an increase in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of an organism resulting from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synthesis</a:t>
            </a:r>
            <a:r>
              <a:rPr b="0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of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ood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substances into new materials and structur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41911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H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Reproduction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process by which organisms give rise to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offspring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14400" y="5257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I.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Metabolism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 – all of the activities of the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Life Processes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sential Questions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c0b"/>
                </a:solidFill>
                <a:latin typeface="Times New Roman"/>
              </a:rPr>
              <a:t>What characteristics do all living organisms share in common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a50021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c0b"/>
                </a:solidFill>
                <a:latin typeface="Times New Roman"/>
              </a:rPr>
              <a:t>How do organisms carry out their life func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57200" y="762120"/>
            <a:ext cx="8534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.  Anything that possesses all of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haracteristics of Life is known as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Organism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3276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I.  Characteristics of Life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219320" y="41148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.  Living things are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organized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in unit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alled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8" descr="MPj01826480000[1]"/>
          <p:cNvPicPr/>
          <p:nvPr/>
        </p:nvPicPr>
        <p:blipFill>
          <a:blip r:embed="rId1"/>
          <a:stretch/>
        </p:blipFill>
        <p:spPr>
          <a:xfrm>
            <a:off x="4952880" y="4876920"/>
            <a:ext cx="259092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57200" y="762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Hierarchy of Organization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1440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. Organ System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144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. Cell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144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. Tissue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14400" y="4343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. Organ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14400" y="1523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. Molecules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MCj02421410000[1]"/>
          <p:cNvPicPr/>
          <p:nvPr/>
        </p:nvPicPr>
        <p:blipFill>
          <a:blip r:embed="rId1"/>
          <a:stretch/>
        </p:blipFill>
        <p:spPr>
          <a:xfrm>
            <a:off x="7086600" y="762120"/>
            <a:ext cx="181440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CBD20088_0000[1]"/>
          <p:cNvPicPr/>
          <p:nvPr/>
        </p:nvPicPr>
        <p:blipFill>
          <a:blip r:embed="rId2"/>
          <a:stretch/>
        </p:blipFill>
        <p:spPr>
          <a:xfrm>
            <a:off x="7804080" y="1905120"/>
            <a:ext cx="1339920" cy="1100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MPj02898850000[1]"/>
          <p:cNvPicPr/>
          <p:nvPr/>
        </p:nvPicPr>
        <p:blipFill>
          <a:blip r:embed="rId3"/>
          <a:stretch/>
        </p:blipFill>
        <p:spPr>
          <a:xfrm>
            <a:off x="6705720" y="2971800"/>
            <a:ext cx="14475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MPj04028580000[1]"/>
          <p:cNvPicPr/>
          <p:nvPr/>
        </p:nvPicPr>
        <p:blipFill>
          <a:blip r:embed="rId4"/>
          <a:stretch/>
        </p:blipFill>
        <p:spPr>
          <a:xfrm>
            <a:off x="7315200" y="3809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MPj04387370000[1]"/>
          <p:cNvPicPr/>
          <p:nvPr/>
        </p:nvPicPr>
        <p:blipFill>
          <a:blip r:embed="rId5"/>
          <a:stretch/>
        </p:blipFill>
        <p:spPr>
          <a:xfrm>
            <a:off x="7524720" y="4876920"/>
            <a:ext cx="1619280" cy="1752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505320" y="1447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smallest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hemical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unit of a</a:t>
            </a:r>
            <a:r>
              <a:rPr b="0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omp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514600" y="2514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basic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unit of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 lif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2819520" y="320040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roup of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cells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at perform a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unc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2743200" y="434340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roup of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tissues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at perform related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func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4114800" y="54864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group of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organs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hat </a:t>
            </a:r>
            <a:r>
              <a:rPr b="1" lang="en-US" sz="3200" spc="-1" strike="noStrike" u="sng">
                <a:solidFill>
                  <a:srgbClr val="eb1903"/>
                </a:solidFill>
                <a:uFillTx/>
                <a:latin typeface="Times New Roman"/>
              </a:rPr>
              <a:t>work</a:t>
            </a:r>
            <a:r>
              <a:rPr b="1" lang="en-US" sz="3200" spc="-1" strike="noStrike">
                <a:solidFill>
                  <a:srgbClr val="eb190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toge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62120" y="762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.  Living thing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produc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676520" y="152388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Reproduction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the produc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offsp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600200" y="3352680"/>
            <a:ext cx="7391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.  It is not essential for the survival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individual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organism, but it i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ssential for the continuation of a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pecie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167652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600200" y="762120"/>
            <a:ext cx="7238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3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Specie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 group of organism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at can interbreed and produc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fertile offsp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Picture 6" descr="180px-Bertramli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8195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tiger pictures"/>
          <p:cNvPicPr/>
          <p:nvPr/>
        </p:nvPicPr>
        <p:blipFill>
          <a:blip r:embed="rId3"/>
          <a:stretch/>
        </p:blipFill>
        <p:spPr>
          <a:xfrm>
            <a:off x="457200" y="3124080"/>
            <a:ext cx="2209680" cy="15098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9"/>
          <p:cNvSpPr/>
          <p:nvPr/>
        </p:nvSpPr>
        <p:spPr>
          <a:xfrm>
            <a:off x="2971800" y="3581280"/>
            <a:ext cx="380880" cy="38124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11" descr="Male lion"/>
          <p:cNvPicPr/>
          <p:nvPr/>
        </p:nvPicPr>
        <p:blipFill>
          <a:blip r:embed="rId4"/>
          <a:stretch/>
        </p:blipFill>
        <p:spPr>
          <a:xfrm>
            <a:off x="3962520" y="3124080"/>
            <a:ext cx="1600200" cy="17528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/>
          <p:cNvSpPr/>
          <p:nvPr/>
        </p:nvSpPr>
        <p:spPr>
          <a:xfrm>
            <a:off x="5791320" y="38098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808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934320" y="2362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c0b"/>
                </a:solidFill>
                <a:latin typeface="Times New Roman"/>
              </a:rPr>
              <a:t>Lig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17" descr="Photo of a Mule, Photo, Photos, Photographs, Picture, Pictures"/>
          <p:cNvPicPr/>
          <p:nvPr/>
        </p:nvPicPr>
        <p:blipFill>
          <a:blip r:embed="rId5"/>
          <a:stretch/>
        </p:blipFill>
        <p:spPr>
          <a:xfrm>
            <a:off x="7010280" y="4800600"/>
            <a:ext cx="1330560" cy="172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Buy at Art.com"/>
          <p:cNvPicPr/>
          <p:nvPr/>
        </p:nvPicPr>
        <p:blipFill>
          <a:blip r:embed="rId6"/>
          <a:stretch/>
        </p:blipFill>
        <p:spPr>
          <a:xfrm>
            <a:off x="3505320" y="5038560"/>
            <a:ext cx="1676160" cy="18194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0"/>
          <p:cNvSpPr/>
          <p:nvPr/>
        </p:nvSpPr>
        <p:spPr>
          <a:xfrm>
            <a:off x="5791320" y="54100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808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AutoShape 21"/>
          <p:cNvSpPr/>
          <p:nvPr/>
        </p:nvSpPr>
        <p:spPr>
          <a:xfrm>
            <a:off x="2743200" y="5562720"/>
            <a:ext cx="380880" cy="380880"/>
          </a:xfrm>
          <a:prstGeom prst="plus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83059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c0b"/>
                </a:solidFill>
                <a:latin typeface="Times New Roman"/>
              </a:rPr>
              <a:t>Mu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24" descr="Adam"/>
          <p:cNvPicPr/>
          <p:nvPr/>
        </p:nvPicPr>
        <p:blipFill>
          <a:blip r:embed="rId7"/>
          <a:stretch/>
        </p:blipFill>
        <p:spPr>
          <a:xfrm>
            <a:off x="685800" y="5029200"/>
            <a:ext cx="1800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85800" y="45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.  Living things are able to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change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121932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Growth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increase in the amount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living material and the formation of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new structure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4876920" y="2743200"/>
            <a:ext cx="609480" cy="5335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6934320" y="2590920"/>
            <a:ext cx="1066680" cy="1066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219320" y="373392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2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Developmen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all of the changes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that take place during the life of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organism.  This is considered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ncrease in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complexity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13" descr="tadpole_to_frog.jpg"/>
          <p:cNvPicPr/>
          <p:nvPr/>
        </p:nvPicPr>
        <p:blipFill>
          <a:blip r:embed="rId1"/>
          <a:stretch/>
        </p:blipFill>
        <p:spPr>
          <a:xfrm>
            <a:off x="152280" y="46483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62120" y="76212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.  Living things are based on the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universal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Genetic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code, which i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DNA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Picture 5" descr="MCj03981910000[1]"/>
          <p:cNvPicPr/>
          <p:nvPr/>
        </p:nvPicPr>
        <p:blipFill>
          <a:blip r:embed="rId1"/>
          <a:stretch/>
        </p:blipFill>
        <p:spPr>
          <a:xfrm>
            <a:off x="1981080" y="30481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MPj03901130000[1]"/>
          <p:cNvPicPr/>
          <p:nvPr/>
        </p:nvPicPr>
        <p:blipFill>
          <a:blip r:embed="rId2"/>
          <a:stretch/>
        </p:blipFill>
        <p:spPr>
          <a:xfrm>
            <a:off x="4952880" y="25909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d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5800" y="7621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.  Living things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djus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to their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surrounding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43000" y="22860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1. 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Environment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– surroundings of an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individual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676520" y="3581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a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Ai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676520" y="41911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b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Wat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676520" y="48006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Weather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676520" y="5410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d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Temperatur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676520" y="6019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. </a:t>
            </a:r>
            <a:r>
              <a:rPr b="1" lang="en-US" sz="3600" spc="-1" strike="noStrike" u="sng">
                <a:solidFill>
                  <a:srgbClr val="eb1903"/>
                </a:solidFill>
                <a:uFillTx/>
                <a:latin typeface="Times New Roman"/>
              </a:rPr>
              <a:t>Other organisms in the are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9:49:01Z</dcterms:created>
  <dc:creator>sautrey</dc:creator>
  <dc:description/>
  <dc:language>en-US</dc:language>
  <cp:lastModifiedBy>teacher</cp:lastModifiedBy>
  <dcterms:modified xsi:type="dcterms:W3CDTF">2009-09-01T13:27:54Z</dcterms:modified>
  <cp:revision>7</cp:revision>
  <dc:subject/>
  <dc:title>Notes: Characteristics of Life</dc:title>
</cp:coreProperties>
</file>